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AE1-F132-4499-A467-D0D30D71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C9B-CD07-4EB5-8AFD-77505B8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872-4F79-4771-9C31-856F5F75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CE8-1787-4CFD-853A-321D784B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A42-CC68-47EA-A737-1D8E057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D79-AFEA-4EAC-9628-BC1FB02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E7F-F0D3-4C0C-9D58-CF1173F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562-09A6-4A08-99F1-808E746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CDD-B5B6-4AFB-B740-D8525A25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ACE-7430-4B7F-8AF7-A53D356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E7C-370D-4AAD-BC28-E67159A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151-FEAF-421F-BEF5-839DB78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9328-A286-41AD-956A-09EDE4A71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00" y="1768320"/>
            <a:ext cx="7200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3-05T10:18:05Z</dcterms:modified>
  <cp:revision>14</cp:revision>
  <dc:subject/>
  <dc:title/>
</cp:coreProperties>
</file>